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B42-DD3A-43C8-B546-E576DBF6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20C-FF00-4895-A1AC-FF8D8A2B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A004-22F4-4271-9927-D8A061D9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241-885B-416C-B419-718BA33C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F4D-CF04-4673-B187-D733DD2F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B51-34D0-4D36-B246-F1B391EB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349-75F4-4315-A4B9-A177C973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FC9-5B15-473A-BD31-337BEE41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D52B-FFBA-49BC-AC4F-E575DC1B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E9D-2CAD-4EF1-971F-8C21E59A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575-4627-439F-ABED-5DF3B675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EE48-047A-42E9-9C08-7E5560A9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A82D-A4F8-4E2D-ADED-5A6263B5FA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ystems (i.e. pawns) on the market board move one space to the right while paying maintenance costs. maintenance costs are calculat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tenance costs for each system itself: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itional maintenance costs for the interfaces with other system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squsre of the number of all systems (irrespective of their owners) at the top ends of the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maintenance is payed for a system this system will be removed from the market board during the next administrative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’s can start one or more IT projects.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to reduce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ystem is at the end of it’s lifecycle it will be removed from the market board during the next administrative break if not ren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start no more than 2 (or 3) projects in each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only 5 (or 6)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's start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cing a pawn in the building r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cing a yield chip up side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uild: in one of the defensive, offensive or anticipative row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newal or migration: in the  ‘renewal‘ resp 'migration' r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3080" y="685800"/>
            <a:ext cx="651492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d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no funds are paid for a project, the pawn will move up on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that move up above the ‘build’ row will be cance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ype of project determines the number of steps to complete a project and it's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funds are paid for a project, the pawn will move down (i.e. towards the target) 1, 2 or 3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(as a whole) can complete no more than 8 (or 10) steps during a fiscal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en a project is fin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d: the pawn is moved from the building board to the market board on the green column of the market segment for which the system was bui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fensive or offensiv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 at the top end of the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: at the bottom end of the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al: the pawn is moved to the green column of it’s market seg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ion: the pawn is moved from the top end to the bottom end of the market seg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 to be the first entrant to a market segment receives a ‘first mover’ bonus of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43000" y="3557520"/>
          <a:ext cx="4572000" cy="10144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27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number of ste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s for this fiscal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 costs per st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x costs per st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costs per st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143000" y="1652760"/>
          <a:ext cx="4572000" cy="14572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e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 per st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ew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7-06-20T21:30:59Z</dcterms:modified>
  <cp:revision>121</cp:revision>
  <dc:subject/>
  <dc:title>Spelregels IT-governance game</dc:title>
</cp:coreProperties>
</file>