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E5F-11A6-4C65-8031-DCDE8653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043-28EA-422C-975B-F56A0B43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20B-7695-4A3D-8181-8B8CD291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120-8144-4EE5-90D5-6559B536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2A8-83E2-4A7E-8209-24317B2A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2A9-F4FA-4F03-9114-4AA05F9B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EAB-6023-415A-849D-FA415D49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B4E-C743-44FC-821E-BBA72E1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AF3-2560-481B-90BE-AB057C5E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2B0-BEB4-4807-8DDB-FE5B8AC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38C-BFC0-4783-A314-D74B468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ADA-4E95-4D83-BB5A-EB64819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F8C-9006-4061-84E1-A9A222853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rvb heeft per onmiddelijk geld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van uw projecten dient gekille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rganisatie trekt zich terug op haar cor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k u terug uit 1 mar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tswijziging ingaande over 2 ro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w systemen dienen zich in levensfase 1 te bevi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37:31Z</dcterms:created>
  <dc:creator>x</dc:creator>
  <dc:description/>
  <dc:language>en-US</dc:language>
  <cp:lastModifiedBy>x</cp:lastModifiedBy>
  <dcterms:modified xsi:type="dcterms:W3CDTF">2006-09-10T12:37:49Z</dcterms:modified>
  <cp:revision>1</cp:revision>
  <dc:subject/>
  <dc:title>(r)evolutiekaart 1</dc:title>
</cp:coreProperties>
</file>