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1BA-8F38-406A-8699-FD087C68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4EC-7BFB-4984-AB62-1F617E7F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7B7-952E-4CF0-AE94-24AF3D6C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116-AFD9-42B6-A555-227CE717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E67-67DE-4D93-8015-A6C08EA4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C09-AD1B-4F34-BAAD-FAA12ACB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02B-E577-4468-A8C8-9BF60550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91A-E03D-4C02-BF50-E7669EE5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7AE-F3AE-4743-AEFB-642F4C64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37E-6B5D-4272-A275-AD133015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429-5428-46F7-8A68-599212D1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C4CE-903A-4605-911A-69B8C2B0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6986-16DE-43E8-BD85-A8D9DF6D1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-governanc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 june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geschool d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-governance is the most critical succes factor for it-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-governance game makes players experienc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it-governance (according to gartner): who decid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explain the most necessary elements of th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game details will become clear using the hand out with the rules of th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yers are divided into 3 (or 4) t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eam represents a business unit (b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u's together form one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me consists of 2 p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the 2 phases there will be a br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phases are played in rounds (fiscal ye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iscal year consists of 2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step of approximately 10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ard of directors has decided to gain as much market share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at end each of the bu's has for target to maximise it's individual market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each fiscal year the team with the largest market share wears the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range j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ner of the game is the team with the largest market share by the end of th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ining market sh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u can gain market share in a market segment by building an IT-system for that market segment in either of 3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ticipative (under architec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arket segment generates a turn over of 100 shared among the bu's present, distributed according to the following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s of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irst mover principle) the faster a bu is present in a market segment the larger it's market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market segments a bu has penetrated the larger it's market shares be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under architecture takes mor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enance costs rise when systems are not built und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09:39:38Z</dcterms:created>
  <dc:creator>x</dc:creator>
  <dc:description/>
  <dc:language>en-US</dc:language>
  <cp:lastModifiedBy>x</cp:lastModifiedBy>
  <dcterms:modified xsi:type="dcterms:W3CDTF">2007-06-20T23:19:27Z</dcterms:modified>
  <cp:revision>21</cp:revision>
  <dc:subject/>
  <dc:title>it-governance game</dc:title>
</cp:coreProperties>
</file>