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516-7284-4D7C-8040-659145C9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48C-1943-49CD-A2DF-42BD1C01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1A4-F5CE-4C3E-B8DF-893CF7EA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78D-5BB1-4AE1-9F43-BE7F8AAB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B1D1-0EAA-458A-BA94-41C150FA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D4E2-B6A8-4C54-A18A-F2DCD769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07B-253A-45FE-A159-B9171D13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1E9-8183-4C24-9BD4-B038E37E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D70-E0E1-494E-A264-E111B85B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F2C-F4F2-411A-B49A-BDC4C839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8DD-81FF-4598-9AFB-E8429941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4CD-53AC-40F1-9277-1127D04E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27D5-735D-42CF-A892-3A193787A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)evolutiekaar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rvb heeft per onmiddelijk geld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van uw projecten dient gekille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)evolutieka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organisatie trekt zich terug op haar core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k u terug uit 1 mar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)evolutiekaar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tswijziging ingaande over 2 ron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w systemen dienen zich in levensfase 1 te bevi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2:37:31Z</dcterms:created>
  <dc:creator>x</dc:creator>
  <dc:description/>
  <dc:language>en-US</dc:language>
  <cp:lastModifiedBy>x</cp:lastModifiedBy>
  <dcterms:modified xsi:type="dcterms:W3CDTF">2006-09-10T12:37:49Z</dcterms:modified>
  <cp:revision>1</cp:revision>
  <dc:subject/>
  <dc:title>(r)evolutiekaart 1</dc:title>
</cp:coreProperties>
</file>