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5886-59C7-4979-95C5-9E278667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C983-64A2-4DD8-90F8-717397A6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7B13-EED2-4CFA-AF62-15F6A5FA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3EAF-1FFD-44A8-A0EB-EC2BA82B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D35C-AE5C-4A6E-A788-181A5237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580-D4B9-4A6F-B45D-AB00820B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3F8-C505-4CD2-9047-81394775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789-CE4E-4C42-B8A5-41CE593C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1B5-23F6-4C35-BD2C-362494A6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DADD-DD37-49A9-8D40-0B5B5162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B4DF-2164-4641-A711-1061AB6B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5DA5-96F4-47FC-92DF-4DE31661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0FC3-0A0D-4450-9E99-C59FDE7BBB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ystems (i.e. pawns) on the market board move one space to the right while paying maintenance costs. maintenance costs are calculat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ntenance costs for each system itself: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itional maintenance costs for the interfaces with other system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squsre of the number of all systems (irrespective of their owners) at the top ends of the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maintenance is payed for a system this system will be removed from the market board during the next administrative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’s can start one or more IT projects. 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.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to reduce maintenanc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ystem is at the end of it’s lifecycle it will be removed from the market board during the next administrative break if not ren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start no more than 2 (or 3) projects in each fisca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run only 5 (or 6) projects simultane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's start a projec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acing a pawn in the building r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acing a yield chip up side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uild: in one of the defensive, offensive or anticipative row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newal or migration: in the  ‘renewal‘ resp 'migration' r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3080" y="685800"/>
            <a:ext cx="651492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d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no funds are paid for a project, the pawn will move up on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that move up above the ‘build’ row will be cance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ype of project determines the number of steps to complete a project and it's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funds are paid for a project, the pawn will move down (i.e. towards the target) 1, 2 or 3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(as a whole) can complete no more than 8 (or 10) steps during a fiscal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en a project is fin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d: the pawn is moved from the building board to the market board on the green column of the market segment for which the system was bui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fensive or offensiv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: at the top end of the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: at the bottom end of the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al: the pawn is moved to the green column of it’s market seg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ion: the pawn is moved from the top end to the bottom end of the market seg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 to be the first entrant to a market segment receives a ‘first mover’ bonus of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43000" y="3557520"/>
          <a:ext cx="4572000" cy="10144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27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number of ste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sts for this fiscal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x costs per st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x costs per st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costs per st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143000" y="1652760"/>
          <a:ext cx="4572000" cy="14572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e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 per st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ew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ip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7-06-20T21:30:59Z</dcterms:modified>
  <cp:revision>121</cp:revision>
  <dc:subject/>
  <dc:title>Spelregels IT-governance game</dc:title>
</cp:coreProperties>
</file>