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1CBE-DB29-4AAD-981D-FD3EA1A95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FE81-D082-43FA-9B4F-A9751396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8AE5-C128-4B86-86A5-1D9FCE94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B40F-89A4-4D81-A833-8514B86FE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F64E-C177-49ED-BADD-6C1B308A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2845-7DC8-408B-A52F-DEB0097F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F2AE-4DBD-446C-958D-B916C5CD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E744-775A-4F3D-A6AF-CCF71835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2238-586A-46AC-B229-370B73A3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4BA6-4B68-42ED-8303-0B587DD2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B4BE-FFE9-4D93-8377-B27D9209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EDB7-FA2F-47BA-97D5-D845BE9D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F33E-36C1-42B7-B2CB-F1F4E2358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808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to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907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art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137160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ecute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58672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maint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990720"/>
            <a:ext cx="27432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16002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jec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def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34290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off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40384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anticip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46483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52578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renew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16002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#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004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00400" y="34290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40384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46483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52578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5867280"/>
            <a:ext cx="4114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day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80880"/>
            <a:ext cx="4114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990720"/>
            <a:ext cx="4114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1600200"/>
            <a:ext cx="4114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#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ecuted simultane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36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152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2400" y="5943600"/>
            <a:ext cx="457200" cy="4572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80880"/>
            <a:ext cx="27432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5867280"/>
            <a:ext cx="27432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8:13:37Z</dcterms:created>
  <dc:creator>jj</dc:creator>
  <dc:description/>
  <dc:language>en-US</dc:language>
  <cp:lastModifiedBy>jj</cp:lastModifiedBy>
  <dcterms:modified xsi:type="dcterms:W3CDTF">2009-07-10T08:13:55Z</dcterms:modified>
  <cp:revision>1</cp:revision>
  <dc:subject/>
  <dc:title>PowerPoint-presentatie</dc:title>
</cp:coreProperties>
</file>