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6710363" cy="98345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25A88-CB09-4D55-B2A5-E2900713E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D853C-00F9-48DD-8AEA-FA0D05E1F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D8A4B-CC7E-4238-84A3-4C3A27207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EE411-CFA2-4A8B-B42A-D21996E71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D3041-45C4-4E0A-875C-2A33A8894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FC46F-0AEB-41D8-B043-DEEC1BAB6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B9A11-749E-422A-A213-98E62287B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7D3BA-CF73-4E42-AA11-A696AC428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461D9-C69B-410B-ADC0-D04EB77FC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6D30E-1528-4E08-8BE4-DC04D3481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7BB99-425F-4448-B950-550E710AF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C1580-37D9-4E39-ABC0-C2D1D1176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A4457-CA8B-4CA9-9533-92B883BF7288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14360" y="533520"/>
            <a:ext cx="6172200" cy="845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layers are divided into 3 [4] te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team represents a business unit (bu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u's together form one organ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ame is played in rounds (fiscal years) consisting 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ximately 10 min playing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oard of directors has decided to gain as much market share as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that end each of the bu's has for target to maximise it's individual market sh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ring each fiscal year the bu with the largest market share wears the </a:t>
            </a:r>
            <a:r>
              <a:rPr b="0" lang="en-US" sz="1200" spc="-1" strike="noStrike">
                <a:solidFill>
                  <a:srgbClr val="ff6600"/>
                </a:solidFill>
                <a:latin typeface="Arial"/>
              </a:rPr>
              <a:t>orange ja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nner of the game is the bu with the largest market share by the end of the g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u can gain market share in a market segment by building an IT-system for that mar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gment in either of 3 spee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ens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fens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iticipative (under architec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mics of the g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market segment generates a turn over of 6 shared among the bu's pres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first mover principle) the earlier a bu is present in a market segment the larger it's market sh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ing under archite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owers maintenance co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kes more ti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T-governance game is a game of balance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 betwe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speed (market sha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architecture (maintenance cost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63600" y="152280"/>
            <a:ext cx="6286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IT-governance game ru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part 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533520" y="6248520"/>
          <a:ext cx="2666880" cy="1377720"/>
        </p:xfrm>
        <a:graphic>
          <a:graphicData uri="http://schemas.openxmlformats.org/drawingml/2006/table">
            <a:tbl>
              <a:tblPr/>
              <a:tblGrid>
                <a:gridCol w="701640"/>
                <a:gridCol w="701640"/>
                <a:gridCol w="425520"/>
                <a:gridCol w="457200"/>
                <a:gridCol w="380880"/>
              </a:tblGrid>
              <a:tr h="272520">
                <a:tc gridSpan="2"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et sh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v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324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s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n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r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28584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ber of bu'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2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3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19040" y="533520"/>
            <a:ext cx="6438960" cy="845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arting 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u can start one or more IT projects by asking the IT-manager to do so on it's beha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three kinds of IT project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uild a new system for a market segment in which the bu is not yet present, the bu can choose one from three speeds available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efensive (3 phases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ffensive (4 phases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ticipative (5 phases, under architectur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grate an existing system under architecture to reduce maintenance costs (2 phas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new an existing system to begin a new life cycle (2 phas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ecuting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ach fiscal year a bu can execute per project up to 3 ph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invmestent depends on the type of project and the number of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ases execu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ee the price list of the IT-manag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jects can be put on hold (ie temporarily not execut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1 extra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hase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is needed to complete the proj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if the project needs as many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hases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to complete as originally the project is killed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uring the next evalu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intaining app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system on the market board has to be mainta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wise the system will be removed from the market board during the next eval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ter 5 fiscal years a system reaches it's end of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at case besides maintenance a renewal project has to be delivered for that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well, again otherwise the system will be removed from the market board during the next eval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ach fiscal year is followed by an evaluation in whi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ach bu receives from the IT-manager a report on the status of it's projects and applic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bank pays the bu's their turn o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1000" spc="-1" strike="noStrike">
                <a:solidFill>
                  <a:srgbClr val="ff6600"/>
                </a:solidFill>
                <a:latin typeface="Arial"/>
              </a:rPr>
              <a:t>orange jacke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is handed over to the leading b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the IT-manager announces the maintenance costs for the next fiscal ye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63600" y="152280"/>
            <a:ext cx="6286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IT-governance game ru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part 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1T09:06:22Z</dcterms:created>
  <dc:creator>x</dc:creator>
  <dc:description/>
  <dc:language>en-US</dc:language>
  <cp:lastModifiedBy>x</cp:lastModifiedBy>
  <dcterms:modified xsi:type="dcterms:W3CDTF">2009-02-17T11:22:03Z</dcterms:modified>
  <cp:revision>327</cp:revision>
  <dc:subject/>
  <dc:title>Spelregels IT-governance game</dc:title>
</cp:coreProperties>
</file>