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0A8-C503-49CD-9830-4A8014C5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710-744A-4904-9969-242AFFD9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D48-ED3F-42E5-9575-49F0EE56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F15-3FC6-43E1-8BA1-B1BFEE81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52F-FBD1-4702-837E-595DAF72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45F-2766-4F64-A512-E9D8276A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A99-6A01-4AF8-89F8-7D8E4A0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B68-BE3B-48D2-9D1C-05AEEB8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856-66C6-47F3-A16B-697D39F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796-74E7-4A30-8805-6DA9837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58A-1BCA-4C4C-ABC3-A4B9D59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835-2C15-4BAD-9985-3CE2B7B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8E0-0CC6-437C-A4AE-DB949F69AA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(or 4)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consists of 2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2 phases there will be a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phases are played in rounds (fiscal years) consisting of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v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 step of approximately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team with the largest market share wears the 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team wearing the orange jacket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100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 over of 100 is distributed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market segments a bu has penetrated the larger it's market shares be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administrative break the IT-director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total market shares of each of the bu's on the flip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to each bu seperately the market shares on it's individual market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orange jacket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each team it's earned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 warning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t the end of their life cycle (to be phased out if not renewed in the next execution st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s on hold to be cancelled (if not funded in the next execution st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 maintenance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68436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system on the market board it's owner has to pay maintenance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aintenance is payed for a system this system will be removed from the market board during the next administrativ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’s can start one or more IT projects.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to reduce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ystem is at the end of it’s lifecycle it will be removed from the market board during the next administrative break if not ren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start no more than 2 (or 3) projects in each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only 5 (or 6)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d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fu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a project on hold is not resumed after a cancellation warning has been issued by the IT-director that project will be cancelled during the next administrativ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ype of project determines the number of steps to complete a project and it's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make 1 to 3 steps per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(as a whole) can complete no more than 8 (or 10) steps during a fisca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 to be the first entrant to a market segment receives a ‘first mover’ bonus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7315200"/>
          <a:ext cx="4572000" cy="1014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s for this fiscal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43000" y="5562720"/>
          <a:ext cx="4572000" cy="1457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7-06-20T21:19:51Z</dcterms:modified>
  <cp:revision>165</cp:revision>
  <dc:subject/>
  <dc:title>Spelregels IT-governance game</dc:title>
</cp:coreProperties>
</file>