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C76-E853-4763-8128-1789FDF0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99-F12D-44E8-A8F2-571C7E62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F7B-B891-45A6-89EF-70A39C03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186-0D7B-45FD-AC1C-3628E71E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1C7-172C-4FB8-B4A0-A45BEFA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D6D-D11B-497B-B4BD-B60A0AEC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687-0482-4EE7-AEF0-24A91F80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C52-FCC7-4007-8D62-B5741AB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AAE-72F5-48BF-887B-5C9738D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720-2326-4C39-BCBF-16E77259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999-C85F-4AE0-A640-44F1F0B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585-F40A-4316-85B8-DF50E10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1C9-31A7-40F0-B96B-C2ACC0557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534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33520"/>
            <a:ext cx="53337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steps left after fiscal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914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295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24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00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581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3962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5105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6248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152280"/>
            <a:ext cx="8534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533520"/>
            <a:ext cx="53337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paid in fiscal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914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1295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3200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3581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962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88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84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105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6248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22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24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24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724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7724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059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724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059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059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724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059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724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059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724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059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51:33Z</dcterms:created>
  <dc:creator>x</dc:creator>
  <dc:description/>
  <dc:language>en-US</dc:language>
  <cp:lastModifiedBy>x</cp:lastModifiedBy>
  <dcterms:modified xsi:type="dcterms:W3CDTF">2008-05-02T07:17:03Z</dcterms:modified>
  <cp:revision>7</cp:revision>
  <dc:subject/>
  <dc:title>PowerPoint-presentatie</dc:title>
</cp:coreProperties>
</file>