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742-F52A-449F-B9E6-45940CA9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64E-FFEB-4F06-88F1-E9E1DA9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2F3-2AEA-447A-A7F8-F15CA744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ED3-1E1D-4046-BB0E-400A1480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15D-A642-44BA-967D-FE0E4BC3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339-4F13-40E4-B605-03873F15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982-899D-48F5-8D4B-FEEC1029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AE1-D039-4AEB-81E6-45353D75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F99-FF95-4086-B2E1-88FBC2D2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80B-F8A6-4A79-BBDA-82A6727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4EA-7C44-43E5-B1CB-C9E25A4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C4A-C30E-411F-93BB-2B5D646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607-3C69-4353-9718-288FFDA0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/ 2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2000"/>
                <a:gridCol w="425160"/>
                <a:gridCol w="457200"/>
                <a:gridCol w="381240"/>
              </a:tblGrid>
              <a:tr h="276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