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921875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F96-F4A0-49AE-B3CD-722904E6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3AF-3018-447E-9301-9717FE93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0BC-0EB1-412E-9680-DED7BE1C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3E5-96A6-44F9-BF55-5251B403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F9E-C260-488A-8C94-1C82B7B2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0EA8-DF04-473B-8CF3-E84EC978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408-27EB-440A-96CD-BD1F99AF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0F5D-DD94-4140-BBAD-C17AC9FC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CA0-EC09-450F-A7E0-63E57F65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3A4F-EA0F-48A6-B35F-65854BCF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9611-14CF-4ED6-999F-742C2ED6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F7F-FAE0-462A-889A-1BCA5FC9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42FF-5135-43E1-A4EB-136C549C3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-governanc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 september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geschool van amsterd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-governance is the most critical succes factor for it-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t-governance game makes players experienc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of it-governance (according to gartner): who decid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explain the most necessary elements of the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e game details will become clear using the hand out with the game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th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layers are divided into 3 [or 4] t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eam represents a business unit (b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u's together form one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th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ame consists of 2 ph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the 2 phases there will be a br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phases are played in rounds (fiscal yea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fiscal year consists of 2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br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step of approximately 10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th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ard of directors has decided to gain as much market share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at end each of the bu's has for target to maximise it's individual market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each fiscal year the team with the largest market share wears the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range ja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ner of the game is the team with the largest market share by the end of the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ining market sh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u can gain market share in a market segment by building an IT-system for that market segment in either of 3 sp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ticipative (under architec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arket segment generates a turn over of 10 shared among the bu's present, distributed according to the following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s of th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irst mover principle) the faster a bu is present in a market segment the larger it's market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under architecture takes mor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enance costs rise when systems are not built und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09:39:38Z</dcterms:created>
  <dc:creator>x</dc:creator>
  <dc:description/>
  <dc:language>en-US</dc:language>
  <cp:lastModifiedBy>jj</cp:lastModifiedBy>
  <dcterms:modified xsi:type="dcterms:W3CDTF">2009-09-30T09:45:40Z</dcterms:modified>
  <cp:revision>26</cp:revision>
  <dc:subject/>
  <dc:title>it-governance game</dc:title>
</cp:coreProperties>
</file>