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95EB-E01C-4514-95BB-97530EF4D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5BAB-B4DC-466C-9D85-CE2F0B15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AEB8-C3F3-4F66-BA02-A87FD96D9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E7AE-B778-4077-8B53-1518FF338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FB53-387C-4BED-A832-A2EE7BC4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1EE7-8920-470D-A7D0-547AD351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2759-4841-464D-9894-08FEB9F5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EF86-2950-42C4-BD1A-267AABF2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8176-17C4-4F71-9091-14C4C65C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5679-F03C-47C6-8D04-CF72F8C6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FA2B-5E40-4DE7-83D4-31C6FB93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E1C7-4EEA-4B59-A417-CA27F88E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06BD-B142-4712-854C-DDC465804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52280"/>
            <a:ext cx="8534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05320" y="533520"/>
            <a:ext cx="53337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of steps left after fiscal y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9144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9144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9144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05320" y="914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914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914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914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638680" y="914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914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05720" y="914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8880" y="914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772400" y="914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05920" y="914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2952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12952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38280" y="12952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05320" y="1295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38480" y="1295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1295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05520" y="1295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295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1295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05720" y="1295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238880" y="1295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772400" y="1295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05920" y="1295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16765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16765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38280" y="16765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05320" y="1676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1676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1676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1676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38680" y="1676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172200" y="1676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05720" y="1676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38880" y="1676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72400" y="1676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05920" y="1676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20574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au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71600" y="20574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20574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2057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38480" y="2057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2057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05520" y="2057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2057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2057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05720" y="2057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238880" y="2057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772400" y="2057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05920" y="2057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24382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71600" y="24382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4382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05320" y="2438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2438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2438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05520" y="2438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438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72200" y="2438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05720" y="2438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238880" y="2438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772400" y="2438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05920" y="2438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28195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28195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438280" y="28195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05320" y="2819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38480" y="2819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2819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2819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38680" y="2819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72200" y="2819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2819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238880" y="2819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72400" y="2819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05920" y="2819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32004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32004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38280" y="32004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05320" y="3200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3200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3200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05520" y="3200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680" y="3200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3200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05720" y="3200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238880" y="3200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772400" y="3200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05920" y="3200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35812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35812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8280" y="35812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05320" y="3581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3581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3581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3581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38680" y="3581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3581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3581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238880" y="3581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3581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05920" y="3581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39625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71600" y="39625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38280" y="39625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05320" y="3962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038480" y="3962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0" y="3962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05520" y="3962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38680" y="3962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72200" y="3962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05720" y="3962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238880" y="3962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772400" y="3962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05920" y="3962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43434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71600" y="43434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43434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343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38480" y="4343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0" y="4343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4343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638680" y="4343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72200" y="4343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05720" y="4343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238880" y="4343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772400" y="4343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05920" y="4343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47242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47242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38280" y="47242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05320" y="4724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38480" y="4724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4724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05520" y="4724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38680" y="4724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724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05720" y="4724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38880" y="4724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772400" y="4724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05920" y="4724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51055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71600" y="51055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38280" y="51055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05320" y="5105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5105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0" y="5105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05520" y="5105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5105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72200" y="5105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705720" y="5105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238880" y="5105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772400" y="5105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5105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54864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54864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38280" y="54864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05320" y="5486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5486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5486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05520" y="5486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38680" y="5486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172200" y="5486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05720" y="5486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238880" y="5486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772400" y="5486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05920" y="5486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920" y="58672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58672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438280" y="58672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05320" y="5867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038480" y="5867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0" y="5867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5520" y="5867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638680" y="5867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72200" y="5867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05720" y="5867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238880" y="5867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72400" y="5867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05920" y="5867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4920" y="62485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71600" y="62485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438280" y="62485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05320" y="6248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38480" y="6248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6248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05520" y="6248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38680" y="6248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72200" y="6248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05720" y="6248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238880" y="6248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772400" y="6248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305920" y="6248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04920" y="152280"/>
            <a:ext cx="8534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505320" y="533520"/>
            <a:ext cx="53337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tenance paid in fiscal y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9144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9144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438280" y="9144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chit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05320" y="914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038480" y="914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0" y="914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05520" y="914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638680" y="914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172200" y="914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914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238880" y="914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12952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71600" y="12952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438280" y="12952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05320" y="1295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38480" y="1295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0" y="1295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05520" y="1295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1295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172200" y="1295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705720" y="1295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238880" y="1295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16765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o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16765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38280" y="16765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05320" y="1676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038480" y="1676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0" y="1676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105520" y="1676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38680" y="1676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172200" y="1676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05720" y="1676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38880" y="1676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4920" y="20574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371600" y="20574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438280" y="20574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05320" y="2057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038480" y="2057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0" y="2057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105520" y="2057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638680" y="2057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172200" y="2057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705720" y="2057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238880" y="2057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24382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au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371600" y="24382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438280" y="24382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05320" y="2438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038480" y="2438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0" y="2438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05520" y="2438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638680" y="2438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72200" y="2438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05720" y="2438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238880" y="2438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04920" y="28195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o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71600" y="28195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438280" y="28195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505320" y="2819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038480" y="2819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72000" y="2819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05520" y="2819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638680" y="2819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172200" y="2819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705720" y="2819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238880" y="2819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32004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371600" y="32004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438280" y="32004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05320" y="3200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038480" y="3200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0" y="3200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105520" y="3200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3200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172200" y="3200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05720" y="3200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238880" y="3200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04920" y="35812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371600" y="35812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438280" y="35812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505320" y="3581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38480" y="3581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0" y="3581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105520" y="3581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638680" y="3581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72200" y="3581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05720" y="3581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238880" y="3581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04920" y="39625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371600" y="39625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438280" y="39625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505320" y="3962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038480" y="3962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0" y="3962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105520" y="3962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638680" y="3962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172200" y="3962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705720" y="3962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238880" y="3962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04920" y="43434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o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371600" y="43434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438280" y="43434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505320" y="4343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8480" y="4343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4343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105520" y="4343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638680" y="4343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172200" y="4343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705720" y="4343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238880" y="4343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04920" y="47242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o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71600" y="47242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47242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505320" y="4724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038480" y="4724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0" y="4724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105520" y="4724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638680" y="4724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72200" y="4724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705720" y="4724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238880" y="4724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04920" y="51055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371600" y="51055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438280" y="51055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505320" y="5105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038480" y="5105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0" y="5105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105520" y="5105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638680" y="5105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172200" y="5105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705720" y="5105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238880" y="5105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04920" y="54864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au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371600" y="54864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438280" y="54864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05320" y="5486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038480" y="5486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0" y="5486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105520" y="5486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638680" y="5486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172200" y="5486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705720" y="5486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238880" y="5486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4920" y="58672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au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371600" y="58672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438280" y="58672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505320" y="5867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038480" y="5867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72000" y="5867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105520" y="5867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638680" y="5867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172200" y="5867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705720" y="5867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238880" y="5867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04920" y="62485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62485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438280" y="62485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505320" y="6248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038480" y="6248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0" y="6248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105520" y="6248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638680" y="6248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172200" y="6248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705720" y="6248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238880" y="6248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772400" y="914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305920" y="914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772400" y="1295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05920" y="1295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772400" y="1676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305920" y="1676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772400" y="2057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305920" y="2057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772400" y="2438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305920" y="2438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772400" y="2819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305920" y="2819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772400" y="3200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305920" y="3200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772400" y="3581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305920" y="3581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3962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305920" y="3962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772400" y="4343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305920" y="4343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772400" y="4724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305920" y="4724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772400" y="5105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305920" y="5105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772400" y="548640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305920" y="548640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772400" y="5867280"/>
            <a:ext cx="5335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305920" y="5867280"/>
            <a:ext cx="533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772400" y="6248520"/>
            <a:ext cx="5335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305920" y="6248520"/>
            <a:ext cx="533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5:51:33Z</dcterms:created>
  <dc:creator>x</dc:creator>
  <dc:description/>
  <dc:language>en-US</dc:language>
  <cp:lastModifiedBy>x</cp:lastModifiedBy>
  <dcterms:modified xsi:type="dcterms:W3CDTF">2008-05-02T07:17:49Z</dcterms:modified>
  <cp:revision>7</cp:revision>
  <dc:subject/>
  <dc:title>PowerPoint-presentatie</dc:title>
</cp:coreProperties>
</file>