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334F-4E97-4C99-9B38-5DACE934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A2D6-2C08-4060-A6FE-FB112736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51B5-B9F8-4A08-95F7-2A6D5F81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C7B3-DE06-454B-BFB4-07B2125B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89FD-DAA6-45A1-9402-775BDF35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5F5E-1EE4-4699-8AA0-C6E5CCD4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454B-E704-4FF0-8C1B-C53912E2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1FB-1317-419A-9277-A23601CD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54E1-142A-43C9-832D-D29F4359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B5A2-0F20-4065-9BB2-6DB4F838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0448-2DE2-43F1-8B3B-E39761E2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A8EE-7132-4700-A830-11D077E2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97D4-37E6-4206-9B5D-D76D201A5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914400"/>
            <a:ext cx="25909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38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8288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21337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4382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27432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0481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3526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576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9625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52388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182880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21337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43828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274320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0481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335268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365760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39625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609480"/>
            <a:ext cx="32767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304920"/>
            <a:ext cx="327672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2193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12193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12193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12193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12193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914400"/>
            <a:ext cx="25909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15238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8288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19520" y="21337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24382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27432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30481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33526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36576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39625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15238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18288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21337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24382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27432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30481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33526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4800" y="36576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39625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52388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182880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1337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243828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274320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30481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335268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365760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39625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5486400"/>
            <a:ext cx="25909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60958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008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67057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70102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73152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76201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79246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82296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85345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609588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640080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67057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701028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731520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76201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792468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822960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85345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5181480"/>
            <a:ext cx="32767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4876920"/>
            <a:ext cx="327672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57913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57913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57913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57913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57913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5486400"/>
            <a:ext cx="25909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60958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64008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67057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70102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73152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76201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79246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82296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85345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14800" y="60958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64008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67057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70102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73152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76201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79246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82296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85345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609588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10080" y="640080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67057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10080" y="701028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731520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76201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792468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822960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85345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914400"/>
            <a:ext cx="25909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15238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8288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21337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24382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7432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30481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3526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36576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39625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152388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182880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21337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243828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274320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30481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3880" y="335268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65760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39625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29000" y="609480"/>
            <a:ext cx="32767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304920"/>
            <a:ext cx="327672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12193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12193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2193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4800" y="12193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12193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14800" y="914400"/>
            <a:ext cx="25909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15238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18288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21337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24382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27432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30481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19520" y="33526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36576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19520" y="39625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15238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18288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4800" y="21337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4382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7432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30481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33526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36576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9625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10080" y="152388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182880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21337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10080" y="243828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0080" y="274320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30481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10080" y="335268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0080" y="365760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10080" y="39625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5486400"/>
            <a:ext cx="25909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60958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64008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67057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70102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73152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76201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79246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82296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85345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609588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640080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3880" y="67057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3880" y="701028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731520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76201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792468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822960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85345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5181480"/>
            <a:ext cx="32767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4876920"/>
            <a:ext cx="327672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57913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3880" y="57913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19520" y="57913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14800" y="57913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10080" y="57913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14800" y="5486400"/>
            <a:ext cx="25909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60958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19520" y="64008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67057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19520" y="70102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19520" y="73152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76201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79246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19520" y="82296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85345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60958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64008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14800" y="67057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14800" y="70102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14800" y="73152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14800" y="76201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14800" y="79246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14800" y="82296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14800" y="85345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609588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640080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10080" y="67057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10080" y="701028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731520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0080" y="76201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10080" y="792468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10080" y="822960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10080" y="85345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23880" y="914400"/>
            <a:ext cx="25909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15238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18288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21337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24382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27432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30481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33526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36576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39625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23880" y="152388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182880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3880" y="21337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23880" y="243828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3880" y="274320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30481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335268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3880" y="365760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39625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609480"/>
            <a:ext cx="32767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u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29000" y="304920"/>
            <a:ext cx="327672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12193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23880" y="12193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19520" y="12193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14800" y="12193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12193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14800" y="914400"/>
            <a:ext cx="25909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15238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19520" y="18288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21337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4382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27432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19520" y="30481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19520" y="33526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19520" y="36576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39625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14800" y="15238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14800" y="18288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14800" y="21337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14800" y="24382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14800" y="27432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14800" y="30481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14800" y="335268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14800" y="3657600"/>
            <a:ext cx="1295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3962520"/>
            <a:ext cx="1295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10080" y="152388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0080" y="182880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10080" y="21337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10080" y="243828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10080" y="274320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10080" y="30481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10080" y="335268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10080" y="3657600"/>
            <a:ext cx="12956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0080" y="3962520"/>
            <a:ext cx="1295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x</cp:lastModifiedBy>
  <dcterms:modified xsi:type="dcterms:W3CDTF">2008-05-02T07:19:11Z</dcterms:modified>
  <cp:revision>6</cp:revision>
  <dc:subject/>
  <dc:title>PowerPoint-presentatie</dc:title>
</cp:coreProperties>
</file>