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F16-5480-4616-B13E-6EDD3935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CB9C-4065-4BDC-8E2A-D6C9F407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E146-7B54-4E53-B904-6D5A4A4A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5D9-A3FD-47D2-9DBA-68538F38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4625-E284-4DD6-A4F9-9B54D7A5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F313-53BD-435B-AA1C-9467F5FA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F32-E296-40F3-BA1B-78390AF3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2424-0F76-4E72-90E4-948A6497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A21-D2F4-443C-8986-7E0BD8B2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17B-A1C7-40B0-B101-B33B65E1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F3FF-A0C8-4D98-8779-D4E22BE1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1B0F-61F7-40FF-864A-155A9557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8D9C-6BEE-4632-9A0A-5162DB460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ar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13716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99072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nticip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8672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y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808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60020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943600"/>
            <a:ext cx="457200" cy="457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8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8672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3:37Z</dcterms:created>
  <dc:creator>jj</dc:creator>
  <dc:description/>
  <dc:language>en-US</dc:language>
  <cp:lastModifiedBy>jj</cp:lastModifiedBy>
  <dcterms:modified xsi:type="dcterms:W3CDTF">2009-07-10T08:13:55Z</dcterms:modified>
  <cp:revision>1</cp:revision>
  <dc:subject/>
  <dc:title>PowerPoint-presentatie</dc:title>
</cp:coreProperties>
</file>