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5D42-6D68-497E-AA43-4D673E895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C039-A018-4AA6-BA5A-4556B5EF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E30D-0E22-4345-956E-35B1712D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1FD8-AC92-4DCC-B70A-C8A05F98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3B4E-93AE-41F3-A49B-13F332EA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0021-E131-4155-800A-9A117FD3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FA5F-499A-4A82-AD36-361BEFBC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275B-25EC-4F85-8981-CF195891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9197-71A3-4880-9B2A-35997699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06B2-C306-4406-83E0-22EFC429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5160-260A-48FB-AD9D-9D3A0B9D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5E26-160B-49E5-9330-C1C6F58D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391D-03B8-4B90-8DDE-3CCE8336E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28:50Z</dcterms:created>
  <dc:creator>x</dc:creator>
  <dc:description/>
  <dc:language>en-US</dc:language>
  <cp:lastModifiedBy>x</cp:lastModifiedBy>
  <dcterms:modified xsi:type="dcterms:W3CDTF">2008-05-02T07:20:35Z</dcterms:modified>
  <cp:revision>7</cp:revision>
  <dc:subject/>
  <dc:title>PowerPoint-presentatie</dc:title>
</cp:coreProperties>
</file>