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10363" cy="9834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A9E6-31A8-44F7-B865-E869C5C64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617040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3080" y="5284440"/>
            <a:ext cx="617040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6246-8BF9-43C3-B2EC-E0CC62BCE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3080" y="528444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4960" y="528444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67A1-A93E-4025-B9B7-A28047810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280" y="213336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5480" y="213336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3080" y="528444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280" y="528444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5480" y="528444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F91E-9E89-4CFA-89FA-86EB8056A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3080" y="2133360"/>
            <a:ext cx="617040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7BF0-C75B-481A-991B-8E975454A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617040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1BE8-82A8-4B05-A96F-A87871E83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5BDA-6B02-417B-8456-995D7A941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14D9-C16D-4502-9046-903D8751C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3080" y="366480"/>
            <a:ext cx="617040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A5EC-21F7-404D-A859-BC76098B6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3080" y="528444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C2A5-D11E-4813-81BB-E94659CE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4960" y="528444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930D-B19A-4653-954B-1E03F4F3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3080" y="5284440"/>
            <a:ext cx="617040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F5C0-E99E-4CC0-8364-1B9D31C2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3080" y="2133360"/>
            <a:ext cx="617040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3080" y="8326080"/>
            <a:ext cx="15984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080"/>
            <a:ext cx="2170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26080"/>
            <a:ext cx="15984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C5071F-1340-4BC2-9B56-965A8B4DE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9040" y="533520"/>
            <a:ext cx="6438960" cy="84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rting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 can start one or more IT projects, there are three kinds of IT proj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build a new system for a market segment in which the bu is not yet present. the bu can choose one from three speeds availabl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defensive (3 phase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offensive (4 phase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anticipative (5 phases, under architectur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migrate an existing system under architecture to reduce maintenance costs (2 phas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renew an existing system to begin a new life cycle (2 phas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bu starts a project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placing a round coloured pawn, representing the project's target, up side down in the segment row of the project portfol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placing black square pawns on project phases not to be executed as follow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defens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architec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desig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offens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architec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aniticipat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mig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bui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integr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rene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architec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desig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integr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ganization can run no more than 5 [6] projects simultaneous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5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fiscal year a bu can execute per project up to 3 phases by placing the required number of round silver pawn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ee the price list of the IT-manager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representing development capacity (price: 1 per piece), in the phases to be execu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ases have to be executed in order starting fro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defensive: bui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offensive: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anticipative: archite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migration: 2 phases starting from archite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renewal: 2 phases starting from bui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T-department has 11 [15]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ts of development cap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5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aining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 can maintain a system by placing a round gold pawn, representing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 effor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ice: the number of systems not under architecture (or / 2, depending on the parametrisation for maintenance chosen)), on the system to be maint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3600" y="152280"/>
            <a:ext cx="6286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T-governance game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14360" y="533520"/>
            <a:ext cx="6443640" cy="84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portfol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a system without maintenance effort on top of it is removed from the application portfol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a system lying in a blue row (at the end of it's life cycle) is removed from the application portfolio unless a renewal project has been delivered for this system (and the system is maintained) this fiscal y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when a system has been removed from the application portfolio the systems to the right in the same market segment (if any) shift 1 column to the lef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all systems move down 1 row and the maintenance efforts are returned to the maintenance ar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 portfol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if no phases have been executed for a project the last completed phase is kill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if a project has no completed phases left the project is kill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completed phases are replaced by square coloured paw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w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  <a:ea typeface="DejaVu Sans"/>
              </a:rPr>
              <a:t>hen 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ll phases have been completed the project is delivered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build: a square coloroud pawn is placed in it's corresponding market segment in the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application portfolio 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the 1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s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 row of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defensive or offensi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: the top half of the market seg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anticipative: the bottom half of the market seg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the first colum (from the left) that has not been taken by another b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renewal: the system is moved to the 1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s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 row in the same column of it’s half of it's market seg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migration: the system is moved from the top half to the bottom half of it's market segment in the corresponding row and the same colum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the market share a bu gains depens 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the number of bu's present on that market seg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the order in which the bu penetrated that market seg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nk pays the bu's their turn 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orange jacke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handed over to the leading b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T-manager announces the maintenance costs for the next fiscal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5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of paw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, yellow, blue or green square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d phase o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square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 to be d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, yellow, blue or green round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ta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ver round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ld round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ff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3600" y="152280"/>
            <a:ext cx="6286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T-governance game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166840" y="5264280"/>
          <a:ext cx="2667240" cy="1365120"/>
        </p:xfrm>
        <a:graphic>
          <a:graphicData uri="http://schemas.openxmlformats.org/drawingml/2006/table">
            <a:tbl>
              <a:tblPr/>
              <a:tblGrid>
                <a:gridCol w="701640"/>
                <a:gridCol w="701640"/>
                <a:gridCol w="425520"/>
                <a:gridCol w="457200"/>
                <a:gridCol w="381240"/>
              </a:tblGrid>
              <a:tr h="227160">
                <a:tc gridSpan="2" rowSpan="2"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sh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71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68280">
                <a:tc rowSpan="3"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bu'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09:06:22Z</dcterms:created>
  <dc:creator>x</dc:creator>
  <dc:description/>
  <dc:language>en-US</dc:language>
  <cp:lastModifiedBy>jj</cp:lastModifiedBy>
  <dcterms:modified xsi:type="dcterms:W3CDTF">2009-09-30T10:23:16Z</dcterms:modified>
  <cp:revision>322</cp:revision>
  <dc:subject/>
  <dc:title>Spelregels IT-governance game</dc:title>
</cp:coreProperties>
</file>