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ACB9-AFBC-4409-BFFA-207E38CB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DC33-EB06-44DB-BC5A-20B88615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0322-71D4-4563-89AF-1BD8BB90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247E-18CA-4A8D-91B4-13AE79DE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68C2-4BBA-4F8F-BD90-E18B2A54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983F-7FFA-46E7-8BED-FB786647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01CB-E62A-4343-B5D8-6A5C4B16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9DAE-14A5-4367-9B65-0A386ACC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B047-DD6F-4588-9471-FC644204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8732-3A3A-4D3A-906D-08ECCBC4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5094-8523-48C7-9E79-7CF06CF1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FB70-0D80-458D-B38C-FF38AEFD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44B1-E0F2-47F2-9480-3CB6202E4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x</cp:lastModifiedBy>
  <dcterms:modified xsi:type="dcterms:W3CDTF">2008-05-02T07:20:35Z</dcterms:modified>
  <cp:revision>7</cp:revision>
  <dc:subject/>
  <dc:title>PowerPoint-presentatie</dc:title>
</cp:coreProperties>
</file>