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5B77-F3DE-4602-8DAB-2BC5C27F9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FC6D-1263-422C-9CA3-D482E8CBE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0C31-B1C1-4624-AE14-B23198D29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138C-680C-46F3-A0B6-4B99BE01F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3611-F2C3-480A-9722-82B50B6C9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66D8-62F1-4EAC-87E1-927E4EBF2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0C95-11AD-4F19-9B99-83A3B1F4C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4E85-D482-4E74-A2DE-3015A7B5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23A8-40F6-44BF-B18C-0ABB83D7B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BD4D-85B7-418D-92C7-575FC887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5484-C47C-4619-A9A7-0E07AA3E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E506-594D-431E-A72F-9813D2C5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345A2-C068-4031-9EE5-860A20977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684360"/>
            <a:ext cx="6172200" cy="74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er iets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sschien is er iets besloten dat je niet kunt zi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 is er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eft iedereen hetzelfde beeld van het beslui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e heeft dat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iemand of een groep, gaat iedereen mee in het beslui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neer werd dat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s het van te voren al duidelijk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e werd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t pro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arom werd dit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ar werd rekening mee gehouden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3080" y="366840"/>
            <a:ext cx="6172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aluatie besluitv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09:06:22Z</dcterms:created>
  <dc:creator>x</dc:creator>
  <dc:description/>
  <dc:language>en-US</dc:language>
  <cp:lastModifiedBy>x</cp:lastModifiedBy>
  <dcterms:modified xsi:type="dcterms:W3CDTF">2008-03-02T09:02:43Z</dcterms:modified>
  <cp:revision>86</cp:revision>
  <dc:subject/>
  <dc:title>Spelregels IT-governance ga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03606902</vt:r8>
  </property>
  <property fmtid="{D5CDD505-2E9C-101B-9397-08002B2CF9AE}" pid="3" name="_AuthorEmail">
    <vt:lpwstr>J.vanBeele@meavita.nl</vt:lpwstr>
  </property>
  <property fmtid="{D5CDD505-2E9C-101B-9397-08002B2CF9AE}" pid="4" name="_AuthorEmailDisplayName">
    <vt:lpwstr>Jeroen van Beele</vt:lpwstr>
  </property>
  <property fmtid="{D5CDD505-2E9C-101B-9397-08002B2CF9AE}" pid="5" name="_EmailSubject">
    <vt:lpwstr>gg vr 13</vt:lpwstr>
  </property>
  <property fmtid="{D5CDD505-2E9C-101B-9397-08002B2CF9AE}" pid="6" name="_PreviousAdHocReviewCycleID">
    <vt:r8>1283275073</vt:r8>
  </property>
</Properties>
</file>