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F3C9-836F-4C17-826C-8D8DA689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955D-E972-42DE-944D-96375B91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B3F1-B940-42FF-A0F6-CCDE92E6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7C7-28EB-442C-8973-F3E45A10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127-4F07-433E-81AA-6FF86F5F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E7D6-4464-4D22-9DF1-1DE57796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BCEA-F42E-416F-97BC-8A934168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BBF7-A8F4-464F-B6C9-BB7696ED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DA98-78AB-4EE5-A699-164FDC0F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ADA-1D0C-4C48-9F76-8472066A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DBF7-9562-4954-B963-47DAC6C8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908-200F-4F66-B8DF-F5C2027F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3D4D-14DB-4CEE-84CC-A6E237532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jj</cp:lastModifiedBy>
  <dcterms:modified xsi:type="dcterms:W3CDTF">2009-09-30T09:42:24Z</dcterms:modified>
  <cp:revision>7</cp:revision>
  <dc:subject/>
  <dc:title>PowerPoint-presentatie</dc:title>
</cp:coreProperties>
</file>