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8530-D78B-4C7A-B87E-D6D85E377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088F-4E8B-46EF-B35C-A0BA1F3F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3155-B9AB-4659-AE22-657C5187C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E6A4-9BC2-49F5-B128-8784E1D6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159D-6EA6-4CA0-A7F3-E0F5CE39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5DCB-F17C-416A-AF77-634A06F3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F0B4-0805-4093-BEF5-01817914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29ED-63DA-445D-8220-F22261AC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7D40-548C-45BF-8E8D-E09802EA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DA62-73BA-4720-8C7F-A4F75B02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8297-04DB-46CC-9567-008C7F83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DAA6-9446-4654-A0D5-25F224A4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258E-E61B-41BD-91C1-62F8914D6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au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28:50Z</dcterms:created>
  <dc:creator>x</dc:creator>
  <dc:description/>
  <dc:language>en-US</dc:language>
  <cp:lastModifiedBy>jj</cp:lastModifiedBy>
  <dcterms:modified xsi:type="dcterms:W3CDTF">2009-09-30T09:42:24Z</dcterms:modified>
  <cp:revision>7</cp:revision>
  <dc:subject/>
  <dc:title>PowerPoint-presentatie</dc:title>
</cp:coreProperties>
</file>