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74F7-8AB5-4CE1-9D74-031F9366B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AEF9-A6A7-487B-8666-EF7E4FCA7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6C67-4E89-4F5D-9A19-34F3A5E5B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66D0-0054-4643-9ABB-09EC2876E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CEB9-D178-4409-A626-7C952109C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9FFC-6819-4AAC-8AAB-31889A874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8012-6651-4F9B-A1B0-40DD3AD2A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2975-7821-489B-A8AA-4C9FA35BF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2498-6213-4DA8-A26C-597D15ACA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6696-C6A9-4C32-BB7C-35193C696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0025-B6F3-4FD5-A310-A3703F01D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F7EE-B063-436B-9DC8-F7F2CD845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21E23-5A4F-4C22-A732-F911B659F4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6000" spc="-1" strike="noStrike">
                <a:solidFill>
                  <a:srgbClr val="ff0000"/>
                </a:solidFill>
                <a:latin typeface="Times New Roman"/>
              </a:rPr>
              <a:t>targe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0000"/>
                </a:solidFill>
                <a:latin typeface="Times New Roman"/>
              </a:rPr>
              <a:t>build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new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0000"/>
                </a:solidFill>
                <a:latin typeface="Times New Roman"/>
              </a:rPr>
              <a:t>migrate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existing systems under 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0000"/>
                </a:solidFill>
                <a:latin typeface="Times New Roman"/>
              </a:rPr>
              <a:t>renew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existing systems at the end of their life cyc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0000"/>
                </a:solidFill>
                <a:latin typeface="Times New Roman"/>
              </a:rPr>
              <a:t>maintain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existing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0T08:18:48Z</dcterms:created>
  <dc:creator>jj</dc:creator>
  <dc:description/>
  <dc:language>en-US</dc:language>
  <cp:lastModifiedBy>jj</cp:lastModifiedBy>
  <dcterms:modified xsi:type="dcterms:W3CDTF">2009-07-10T08:19:01Z</dcterms:modified>
  <cp:revision>1</cp:revision>
  <dc:subject/>
  <dc:title>PowerPoint-presentatie</dc:title>
</cp:coreProperties>
</file>