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7883A-D33C-49B3-B379-0CBFC702D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8A95D-D4D5-4D78-A3D3-D7277FDC3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DFF90-D2B7-457D-9BBA-41B24EB45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A971F-8112-4C08-8CD6-485D36876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C1BF2-31EF-4FAA-BB4F-71C615167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B25E4-85CE-46E5-925A-C43EE2A07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96DB2-2728-40AD-B91B-1FBA3199A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6A25D-C002-4A7A-AD92-035A2AA1F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27028-3035-4FB5-9E1F-129158969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ED1AC-A800-4ACD-B320-FBBCC1B9C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A77AF-C823-45B4-89C2-7B0BF8214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8CD6F-6F23-4B21-8725-429CBA211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DB9FC-ED3B-448F-9826-7D6FB8E8E2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3080" y="684360"/>
            <a:ext cx="6514920" cy="74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arting proj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u can start one or more IT projects by asking the IT-manager to do so on it's behal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three kinds of IT projec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uild a new system for a market segment in which the bu is not yet present, the bu can choose one from three speeds available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efensive (3 phases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ffensive (4 phases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ticipative (5 phases, under architecture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grate an existing system under architecture to reduce maintenance costs (2 phase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new an existing system to begin a new life cycle (2 phase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ecuting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ach fiscal year a bu can execute per project up to 3 ph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invmestent depends on the type of project and the number of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ases execu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ee the price list of the IT-manage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jects can be put on hold (ie temporarily not execut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1 extra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hase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is needed to complete the projec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if the project needs as many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hases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to complete as originally the project is killed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uring the next evalu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intaining 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system on the market board has to be maintain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wise the system will be removed from the market board during the next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ter 5 fiscal years a system reaches it's end of lif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at case besides maintenance a renewal project has to be delivered for that system asw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ain otherwise the system will be removed from the market board during the next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ach fiscal year is followed by an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the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DejaVu Sans"/>
              </a:rPr>
              <a:t>evalu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hands out status repo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pays the bu's their turnover and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DejaVu Sans"/>
              </a:rPr>
              <a:t>hands ove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the </a:t>
            </a:r>
            <a:r>
              <a:rPr b="0" lang="en-US" sz="1200" spc="-1" strike="noStrike">
                <a:solidFill>
                  <a:srgbClr val="ff6600"/>
                </a:solidFill>
                <a:latin typeface="Arial"/>
                <a:ea typeface="DejaVu Sans"/>
              </a:rPr>
              <a:t>orange jacke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 to the leading b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DejaVu Sans"/>
              </a:rPr>
              <a:t>announces the maintenance costs for the next fiscal year and starts the clo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828520" y="152280"/>
            <a:ext cx="119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ules part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05280" y="152280"/>
            <a:ext cx="127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ng ver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2T15:08:04Z</dcterms:created>
  <dc:creator>jj</dc:creator>
  <dc:description/>
  <dc:language>en-US</dc:language>
  <cp:lastModifiedBy>jj</cp:lastModifiedBy>
  <dcterms:modified xsi:type="dcterms:W3CDTF">2010-04-13T07:25:53Z</dcterms:modified>
  <cp:revision>9</cp:revision>
  <dc:subject/>
  <dc:title>PowerPoint-presentatie</dc:title>
</cp:coreProperties>
</file>