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913-4FAD-43FD-834C-02BB4C9B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3DA-C079-4EBF-BBBC-42043E98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22E-9CB2-4988-BA97-C6B45664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119-AB8F-4BC8-A73F-DA0F0EDF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A03-7C7C-419A-A07D-69248C0A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599-ED92-417A-8A8B-95148311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18E-2970-4574-AA9E-89E1D5F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030-6DE1-4AE6-8DD3-724E283F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5CA-5469-4217-AB3C-57B0257E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EC9-83F5-4786-80A1-3B23C0F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831-A3A7-490F-9FD2-7BEE697E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C7B-4CFF-4D25-AB2F-5A2D4F0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3BAD-D8EB-4953-8F0F-F8BA29FC3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to be executed as follow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all b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all b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: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he organization can run no more than 5 or 6 projects simul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, representing development capacity (price: 1 per piece), on the target  in the segment 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he IT-department has 20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price: [the number of systems not under architecture] times [the maintenance severity], rounded up to the next integer), on the system to be main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360" y="152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28520" y="1522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2T11:31:27Z</dcterms:modified>
  <cp:revision>8</cp:revision>
  <dc:subject/>
  <dc:title>PowerPoint-presentatie</dc:title>
</cp:coreProperties>
</file>