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245-2665-4E4D-B835-E68ADDA7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52F-9966-462B-84DE-0437C273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91C-5B6A-4E3A-9037-93C237ED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EA7-31AB-4810-9204-DD43F5A4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882-B2C9-4F1C-A0A7-0166F9EC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AF7-B8BD-4515-A804-6008EC43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622-AAB2-445F-AAF6-E37E7A82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775-09AB-477E-A563-7C635072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3C2-4BAA-4F00-BC99-6ADA3832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97E-F7A2-4E03-817C-168A2953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CC1-8BC2-4017-8E5A-0C0EC11C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D02-351C-4C74-9209-28D11FFE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B3D8-4517-4971-86F2-10B3340D3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51492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lay the short version of the IT-governance game the following is nee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ame m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- 16 p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before interacting with the play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h the posters targets and to do to the wall so that they are clearly visible to all p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down the IT manager console on 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down the project portfolio and the 2nd part application portfolio on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he pawns according to colour, form and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on the IT manager console the clock, the money, the black, silver, gold and round coloured pa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 next to the IT manager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it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anent m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 shawls ready at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the new fiscal year as described in evaluation, IT manager (pto), using the start-up portfolio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the game together with the play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de the players into 2 to 4 bu's, ideally each bu consists of 3 to 4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the shawls to the bu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the introductory round and the rules of the 2nd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initial ca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he IT-governance game by talking through the 1st page of the introductory round and using the posters on th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the introductory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or starts with announcing the maintenance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7080" y="152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55400" y="1522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tion of the 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lay the long version of the IT-governance game the following is nee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ame m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- 16 p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running a java runtime environment (J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before interacting with the play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h the posters targets and to do to the wall so that they are clearly visible to all p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down the IT manager console on 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down the 1st part application portfolio on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he pawns according to colour, form and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on the IT manager console the clock, money and gold pa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 next to the IT manager cons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it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anent m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s (print if necessary, 30 empty reports suff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 shawls ready at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up the computer and the application and ch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u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tenance severity (default = 1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al: names for the bu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the new fiscal year as described in evaluation, IT manager (pto, not pressing the forward butt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the game together with the play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de the players into 2 to 4 bu's, ideally each bu consists of 3 to 4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the shawls to the bu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the rules of the 1st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he IT-governance game by talking through the description of the IT-governance game and using the posters on th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280" y="15228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55400" y="1522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tion of the 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08:04Z</dcterms:created>
  <dc:creator>jj</dc:creator>
  <dc:description/>
  <dc:language>en-US</dc:language>
  <cp:lastModifiedBy>jj</cp:lastModifiedBy>
  <dcterms:modified xsi:type="dcterms:W3CDTF">2010-04-13T07:23:09Z</dcterms:modified>
  <cp:revision>5</cp:revision>
  <dc:subject/>
  <dc:title>PowerPoint-presentatie</dc:title>
</cp:coreProperties>
</file>