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8D3-CAFE-4C4E-A8A8-F9AEA919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23E-8FBB-4C26-83AC-2A4FC417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67E-0C4D-408E-9157-B38BF6C7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F74-E0EA-48B0-B8B4-EB2A6CDF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6A8-DD7D-4039-8E49-0F1B5D83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BB5-11D7-4F44-B113-8C8BEAD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F8E-2B2E-4E15-933A-C7631A9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71F-C5F4-4AB5-ADD1-98EEAB3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BDC-75E9-4F01-B86D-F03DBA9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7C14-4FDB-4AAB-96B1-6991369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4D9-148A-4CC2-9E86-515C27B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D81-A968-481A-A200-B28FCA2B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768A-5041-4B95-9AE3-148A52348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from 1st to 2nd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manager switches to the 2nd part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the 1st part application portfolio with the 2nd part application portfolio and the projec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ing the forward button in the 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the pawns on the project and application portfolio according to the project and application portfolio in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down the maintenance costs (given by the application) on a post-it and attaching this post-it to the to do po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on the IT manager board the round silver and square black pa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ication can now be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ks on a larger scale evaluation thus furnishing the IT manager with time to switch to the 2nd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IT manager has finished switching to the 2nd part starts a new fiscal year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turn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orange j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ing the 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the cloc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23680" y="152280"/>
            <a:ext cx="34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e master roles - switch to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522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1 coloured round pawn in the correct colour and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black square pawns depending on the type of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iv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l round silver pawns, price: 1 per 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l round gold pawns, price: day rate as calculated during lastes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: observes interaction and decision making within and between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manager prepares the new fiscal year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rranging the pawns on both the portfolio boards according to the evaluation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maintenance costs as [the number of systems not under architecture] times [the maintenance severity (default = 1/2)] rounded up to the nex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down the maintenance costs on a post-it and attaching this post-it to the to do po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he reflection on the governance process using the question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 new fiscal year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turn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orange j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ing the 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7400" y="152280"/>
            <a:ext cx="25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e master roles - par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6360" y="152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3T07:42:33Z</dcterms:modified>
  <cp:revision>6</cp:revision>
  <dc:subject/>
  <dc:title>PowerPoint-presentatie</dc:title>
</cp:coreProperties>
</file>