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25F-6728-4E30-B6E4-682AA67C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249-BEEB-4C51-A045-F3A9EA59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6ED-6D2B-4DAF-A2E2-BE1630EC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C06-8E67-499D-B1E7-9F244AE4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3BA-AE99-44A6-A410-20EB7BED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F4D-8D99-4C6C-9873-CC02EDDA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8B9-53F2-4F91-9B7F-8B813521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9C3-264E-4685-8EC9-0DB4137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9D4-69D8-4585-87E7-7D1E425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9AE-88CF-47C7-B69B-92DA7BD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B43-9F9A-4270-8180-6B5FDF6F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AAD-9BE6-4DAD-A1FF-8D03381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0DB6-3FE7-4071-A262-14B1CCD5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3320" y="274320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3320" y="4267080"/>
            <a:ext cx="480060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73320" y="121932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33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733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733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733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33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733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33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33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068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68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68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68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68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068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68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35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35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735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735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735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735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735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70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070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070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070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070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070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70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70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402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402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402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402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02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02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402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37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37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37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37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737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737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737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737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072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72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72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72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2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072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072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072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404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404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04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404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04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404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404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733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33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733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33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733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733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733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68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68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068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068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68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068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68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68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735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735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735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735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735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735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735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70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70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070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070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070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070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70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70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402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402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402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402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402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402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402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02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737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737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737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737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737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37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37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072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072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072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072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2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72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404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04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404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04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404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404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04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04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33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33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33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733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733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33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33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68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68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068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68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68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068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068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68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735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735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735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735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735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35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70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070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070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070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70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070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70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070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402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402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402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402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402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402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402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737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37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737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737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37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37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737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72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72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72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72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072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072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72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072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404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404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404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404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404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404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404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404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3320" y="1371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73320" y="2895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73320" y="441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68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2320" y="609480"/>
            <a:ext cx="15228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1676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320040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304812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320040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259092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57200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457200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41972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00120" y="57913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of introductory round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505320"/>
            <a:ext cx="1526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35053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167652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057400" y="609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7400" y="5181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516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100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485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485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485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5360" y="57913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of introductory round projec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163656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3640" y="239868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3922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60800" y="4648320"/>
            <a:ext cx="304560" cy="304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87480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1636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06800" y="4648320"/>
            <a:ext cx="304920" cy="304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87480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1880" y="2398680"/>
            <a:ext cx="228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6960" y="4648320"/>
            <a:ext cx="304920" cy="3045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1636560"/>
            <a:ext cx="228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10320" y="239868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3922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5400" y="4648320"/>
            <a:ext cx="304560" cy="3045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16404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0200" y="3925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0200" y="468792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6320" y="87804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639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240192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173320" y="274320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73320" y="4267080"/>
            <a:ext cx="480060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3320" y="121932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733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733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733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33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733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733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733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733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068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068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068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068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068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068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068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00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35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735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35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35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735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735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735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735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070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070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070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070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070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070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070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402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402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402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402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402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402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402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402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737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37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737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737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37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37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37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737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072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9072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072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072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072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072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072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072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404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404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404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404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404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404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404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404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733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733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733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733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733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733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733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733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068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68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068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068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068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068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068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068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400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400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400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735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735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735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735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7735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35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735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735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070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070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070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070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070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070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070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070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402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402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402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402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02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402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402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402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737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737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737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737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37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737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737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737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072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072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072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072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072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072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072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072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404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404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404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404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04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404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4404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04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733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733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733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733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733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733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733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733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068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068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068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068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068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068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068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068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00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400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400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400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7735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735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735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35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735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735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7735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7735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070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070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070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070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070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070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070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070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402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402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402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402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402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402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402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402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737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37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37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37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37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3737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737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37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9072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072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072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072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072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072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072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072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404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404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404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404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404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404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404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404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21080" y="5791320"/>
            <a:ext cx="59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introductory round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73320" y="1371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73320" y="2895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73320" y="441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7068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1523880"/>
            <a:ext cx="15228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5480" y="609480"/>
            <a:ext cx="15264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62720" y="182880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335268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320040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352680"/>
            <a:ext cx="15228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213372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72428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4724280"/>
            <a:ext cx="152640" cy="152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487692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457200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44197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057400" y="609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7400" y="5181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8516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574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54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954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954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954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954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339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339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339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7339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100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4100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100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100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2485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485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2485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71640" y="579132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introductory round projec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553080" y="312408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0200" y="38862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550200" y="464832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56320" y="83808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53080" y="16002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236232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173320" y="274320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73320" y="4267080"/>
            <a:ext cx="480060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73320" y="121932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733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733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733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733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1733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733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733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733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068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068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068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068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068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068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068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400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400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400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400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0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400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400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735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735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735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735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35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735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735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7735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070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3070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3070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3070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070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070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3070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402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8402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402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402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402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402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402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8402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737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737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737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737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3737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737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737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737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072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9072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9072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072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9072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072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9072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9072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4404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4404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404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404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404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404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404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404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733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733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733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1733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733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33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733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733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068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7068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7068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068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068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068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7068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7068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400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400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400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400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400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2400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400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400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735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7735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735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735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7735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7735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735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735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070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3070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3070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3070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3070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3070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3070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070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402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8402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402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402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8402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8402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402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402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737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737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737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737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737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737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737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737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072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9072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072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9072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9072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9072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9072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072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4404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404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404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404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404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404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404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4404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1733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733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1733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1733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733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733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1733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733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7068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068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7068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068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7068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7068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068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7068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400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400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400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400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2400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400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400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2400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735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735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735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735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735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735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735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7735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3070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3070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070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070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070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3070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070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3070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402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402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402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402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402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402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402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402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3737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3737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737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3737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3737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737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737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737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072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072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9072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072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9072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072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9072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72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404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404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404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404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4404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4404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404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404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173320" y="1371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73320" y="2895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173320" y="441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7068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2320" y="609480"/>
            <a:ext cx="152280" cy="152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562720" y="1676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62320" y="320040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95480" y="3048120"/>
            <a:ext cx="15264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429000" y="3200400"/>
            <a:ext cx="15228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2520" y="2590920"/>
            <a:ext cx="15228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962520" y="457200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495680" y="4572000"/>
            <a:ext cx="15264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562720" y="472428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5880" y="441972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500120" y="579132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of introductory round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95880" y="3505320"/>
            <a:ext cx="1526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35053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167652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057400" y="609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5181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08516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5740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0574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0574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0574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0574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574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0574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954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954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8954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954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954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8954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7339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339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7339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7339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339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7339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720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720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720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720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4100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100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100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4100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100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485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2485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2485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2485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755360" y="57913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of introductory round projec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00400" y="163656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03640" y="239868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0040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00400" y="3922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60800" y="4648320"/>
            <a:ext cx="304560" cy="304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00400" y="87480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1636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006800" y="4648320"/>
            <a:ext cx="304920" cy="3045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38480" y="874800"/>
            <a:ext cx="228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871880" y="2398680"/>
            <a:ext cx="2286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7692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836960" y="4648320"/>
            <a:ext cx="304920" cy="3045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15000" y="1636560"/>
            <a:ext cx="228600" cy="228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10320" y="239868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15000" y="31608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715000" y="392256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75400" y="4648320"/>
            <a:ext cx="304560" cy="3045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2173320" y="274320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73320" y="4267080"/>
            <a:ext cx="480060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73320" y="121932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1733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733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1733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733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733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733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733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733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7068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7068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068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7068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068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7068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7068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2400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400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2400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2400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400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2400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7735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7735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7735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735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7735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735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735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7735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070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3070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070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070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070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3070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070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3070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8402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8402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402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402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8402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402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402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402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737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737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737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737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737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3737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737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737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072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9072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9072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9072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9072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9072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9072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072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4404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4404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4404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4404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4404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4404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404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404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1733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733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733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733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733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733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1733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1733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7068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068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7068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068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7068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7068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7068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7068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400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2400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2400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2400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2400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400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2400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400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7735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735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735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7735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7735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7735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735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7735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3070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3070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070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3070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70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3070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3070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3070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8402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402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402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8402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402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02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402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402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3737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737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737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737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3737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3737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3737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37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9072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9072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9072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9072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9072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072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072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072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4404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04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4404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4404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4404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4404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4404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4404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1733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733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733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733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733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1733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1733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1733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7068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7068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068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068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7068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068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068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7068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2400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2400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400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400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400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400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2400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2400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735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7735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7735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7735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7735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7735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7735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7735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3070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070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070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3070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070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3070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070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070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8402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8402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402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8402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402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402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8402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402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3737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737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737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3737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3737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3737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737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3737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9072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9072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9072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9072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9072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072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9072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9072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404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4404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4404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4404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404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404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4404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4404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21080" y="5791320"/>
            <a:ext cx="59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introductory round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173320" y="1371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173320" y="2895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73320" y="441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068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62320" y="1523880"/>
            <a:ext cx="152280" cy="152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895480" y="609480"/>
            <a:ext cx="15264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62720" y="182880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362320" y="3352680"/>
            <a:ext cx="152280" cy="152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895480" y="3200400"/>
            <a:ext cx="15264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29000" y="3352680"/>
            <a:ext cx="1522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962520" y="2133720"/>
            <a:ext cx="152280" cy="152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962520" y="472428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4724280"/>
            <a:ext cx="15264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562720" y="487692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095880" y="4572000"/>
            <a:ext cx="15264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629400" y="44197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057400" y="609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57400" y="5181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08516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05740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74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574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574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574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4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0574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8954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54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54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8954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954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7339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7339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7339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7339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7339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720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e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720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5720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i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720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5720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4100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100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100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100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4100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2485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485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2485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2485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2485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871640" y="579132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introductory round projec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33960" y="457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bu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14:16Z</dcterms:created>
  <dc:creator>jj</dc:creator>
  <dc:description/>
  <dc:language>en-US</dc:language>
  <cp:lastModifiedBy>jj</cp:lastModifiedBy>
  <dcterms:modified xsi:type="dcterms:W3CDTF">2010-04-13T07:11:13Z</dcterms:modified>
  <cp:revision>24</cp:revision>
  <dc:subject/>
  <dc:title>PowerPoint-presentatie</dc:title>
</cp:coreProperties>
</file>