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91C-C9BC-4A91-A116-DBBFBFBC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60B-BF99-448C-AAD1-1EC8A624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1AF-A5CA-479E-94C4-5E1A066A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097-9F01-45E6-8470-7584F16E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F0F-4944-4C07-933E-F0F5E089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939-021B-4372-A3F8-6F0A4855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C73-4971-46F3-82C3-2F56D362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188-9AF6-4572-BC1C-CD889382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34B-485C-4032-846E-5B340D6B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60E-4C20-41FA-BFD6-49AC9A9C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CAF7-7DF1-4B9D-87DB-4505FBD9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9C6-2AAE-4400-8F21-E34CB08B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E1F1-26D0-49DC-8EBA-3E1A65A2E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14520" y="579132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nager 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609480"/>
            <a:ext cx="74678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05920" y="609480"/>
            <a:ext cx="144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09480"/>
            <a:ext cx="180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181480"/>
            <a:ext cx="74678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1294920" y="838080"/>
            <a:ext cx="685800" cy="685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2109600" y="838080"/>
            <a:ext cx="685800" cy="685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2918880" y="838080"/>
            <a:ext cx="685800" cy="6858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733560" y="838080"/>
            <a:ext cx="685800" cy="685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666880"/>
            <a:ext cx="3124440" cy="914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666880"/>
            <a:ext cx="3124440" cy="914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7162560" y="838080"/>
            <a:ext cx="685800" cy="685800"/>
          </a:xfrm>
          <a:prstGeom prst="ellipse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733920"/>
            <a:ext cx="838440" cy="1143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733920"/>
            <a:ext cx="838440" cy="1143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3733920"/>
            <a:ext cx="838440" cy="1143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3733920"/>
            <a:ext cx="838440" cy="1143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3733920"/>
            <a:ext cx="838440" cy="1143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733920"/>
            <a:ext cx="838440" cy="1143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1600200"/>
            <a:ext cx="31244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504200" y="8377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04200" y="121932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467840" cy="45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Times New Roman"/>
              </a:rPr>
              <a:t>targe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70160" y="57913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609480"/>
            <a:ext cx="1244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066680"/>
            <a:ext cx="1244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523880"/>
            <a:ext cx="12448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724280"/>
            <a:ext cx="1244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82960" y="1066680"/>
            <a:ext cx="2489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82960" y="15238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82960" y="19810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82960" y="24382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82960" y="28954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82960" y="33526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82960" y="38098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82960" y="42670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27480" y="15238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27480" y="19810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27480" y="24382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27480" y="28954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27480" y="33526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27480" y="38098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27480" y="42670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9810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4382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2895480"/>
            <a:ext cx="12445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4724280"/>
            <a:ext cx="3733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609480"/>
            <a:ext cx="3733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066680"/>
            <a:ext cx="3733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523880"/>
            <a:ext cx="3733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16520" y="19810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2438280"/>
            <a:ext cx="1244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16520" y="2895480"/>
            <a:ext cx="12445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61040" y="1981080"/>
            <a:ext cx="1244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61040" y="2438280"/>
            <a:ext cx="1244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61040" y="2895480"/>
            <a:ext cx="12448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4832280"/>
            <a:ext cx="304920" cy="247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82960" y="609480"/>
            <a:ext cx="2489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82960" y="4724280"/>
            <a:ext cx="2489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609480"/>
            <a:ext cx="7467840" cy="45720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68080" y="579132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37880" y="579132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1 application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73320" y="609480"/>
            <a:ext cx="5335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6840" y="609480"/>
            <a:ext cx="53316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0" y="609480"/>
            <a:ext cx="5335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73520" y="609480"/>
            <a:ext cx="5335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07040" y="609480"/>
            <a:ext cx="53316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40200" y="609480"/>
            <a:ext cx="5335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73720" y="609480"/>
            <a:ext cx="5335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7240" y="609480"/>
            <a:ext cx="53316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40400" y="609480"/>
            <a:ext cx="5335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3320" y="213372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06840" y="2133720"/>
            <a:ext cx="53316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0" y="213372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73520" y="213372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07040" y="2133720"/>
            <a:ext cx="53316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40200" y="213372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73720" y="213372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7240" y="2133720"/>
            <a:ext cx="53316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40400" y="213372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73320" y="365760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06840" y="3657600"/>
            <a:ext cx="53316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365760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73520" y="365760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07040" y="3657600"/>
            <a:ext cx="53316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40200" y="365760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73720" y="365760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07240" y="3657600"/>
            <a:ext cx="53316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40400" y="3657600"/>
            <a:ext cx="533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73320" y="365760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73320" y="213372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73320" y="609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73320" y="5181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739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733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735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737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73320" y="2743200"/>
            <a:ext cx="480060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4267080"/>
            <a:ext cx="480060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73320" y="1219320"/>
            <a:ext cx="480060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733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733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733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733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733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33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33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733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733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733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068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068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68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068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068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068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068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68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068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735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735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735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735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735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735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735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735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735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735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070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070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70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70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070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070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070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070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70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070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402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402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402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02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402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02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402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402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402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402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737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7372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372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372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7372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7372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372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372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372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372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072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07240" y="609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07240" y="762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07240" y="914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07240" y="1066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072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07240" y="1523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07240" y="1676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07240" y="1828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07240" y="1981080"/>
            <a:ext cx="53316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404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40400" y="609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0400" y="762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40400" y="914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40400" y="1066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40400" y="121932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0400" y="1523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0400" y="1676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40400" y="1828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40400" y="1981080"/>
            <a:ext cx="53352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733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733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33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33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733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733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733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733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733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733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068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068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068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68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068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068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068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068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068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068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35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735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735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735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735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735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735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735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735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735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070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070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070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070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070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070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070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070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070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070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402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402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402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402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402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402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402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402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402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402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737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7372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7372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7372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7372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7372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7372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7372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7372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7372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072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07240" y="2133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07240" y="2286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07240" y="2438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07240" y="2590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07240" y="274320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07240" y="3048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07240" y="3200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07240" y="3352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07240" y="350532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404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40400" y="2133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40400" y="2286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40400" y="2438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40400" y="2590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40400" y="274320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40400" y="30481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40400" y="32004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40400" y="33526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40400" y="350532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733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733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733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733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733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733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733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733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733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733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068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068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068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068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068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068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068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068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68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68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400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400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400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735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735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735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735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35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735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735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735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735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735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070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070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070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070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070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070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070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070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070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070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402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402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402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402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02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402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402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402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402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402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737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7372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7372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7372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7372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7372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7372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7372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7372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7372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72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07240" y="3657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07240" y="3809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7240" y="3962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07240" y="4114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7240" y="426708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07240" y="4572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07240" y="4724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07240" y="4876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07240" y="5029200"/>
            <a:ext cx="5331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404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40400" y="36576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40400" y="38098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40400" y="3962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40400" y="41148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40400" y="426708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0400" y="45720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40400" y="47242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40400" y="4876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0400" y="5029200"/>
            <a:ext cx="53352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37880" y="579132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2 application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73320" y="365760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73320" y="213372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73320" y="609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73320" y="5181480"/>
            <a:ext cx="4800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739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733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735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73720" y="609480"/>
            <a:ext cx="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73320" y="1371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73320" y="28954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73320" y="4419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06840" y="1219320"/>
            <a:ext cx="533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057400" y="609480"/>
            <a:ext cx="5029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7400" y="5181480"/>
            <a:ext cx="5029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5160" y="609480"/>
            <a:ext cx="144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609480"/>
            <a:ext cx="1440" cy="4572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740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5740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5740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95480" y="609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1371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2133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5480" y="2895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3657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95480" y="4419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392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3392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3392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3392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10080" y="609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1371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2133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0080" y="28954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10080" y="365760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10080" y="44197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48520" y="609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48520" y="1371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2133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89548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48520" y="36576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44197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81920" y="579132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6:14:16Z</dcterms:created>
  <dc:creator>jj</dc:creator>
  <dc:description/>
  <dc:language>en-US</dc:language>
  <cp:lastModifiedBy>jj</cp:lastModifiedBy>
  <dcterms:modified xsi:type="dcterms:W3CDTF">2010-03-22T19:47:22Z</dcterms:modified>
  <cp:revision>8</cp:revision>
  <dc:subject/>
  <dc:title>PowerPoint-presentatie</dc:title>
</cp:coreProperties>
</file>