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95B2-796A-4A28-996B-18F7E4B6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EC74-3AC5-445F-8F8C-7C05DBD1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041C-25B5-4ADA-BBF2-6E0D2841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53A2-0850-416C-B274-DBD3561B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47F7-DD68-4299-8BFC-9EB3E162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AAE5-9CBB-4062-8235-6F3A8E1E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AD4E-9D06-4209-B1F2-F18BDA08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28B6-37FF-4190-9712-5D361261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3631-8859-43E6-B633-1F27D906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C876-E541-47D7-96A3-17C42252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3426-3E24-4BFF-9A02-5AFBEF83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F08A-2C17-4BB8-94BB-E1649D04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6E04-60C9-4956-99EF-19E2AC382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 a defensive project in segme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e 3 phases of this project in segme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 your applications in segments 4, 6, 8 and 9 (so not in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ish your migration project in segment 1 by executing the last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ish your anticipative project in segment 9 by executing the last 2 p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 your applications in segments 1, 3 and 4 (so not in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ish your renewal project in segment 5 by executing the last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don't execute any phases in your offensive project in segment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 all your applications in segments 4, 5, 8 and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8520" y="1522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rt version - 3 bu'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7840" y="152280"/>
            <a:ext cx="18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troductory 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 a defensive project in segme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e 3 phases of this project in segme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 your applications in segments 8 and 9 (so not in 2 and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ish your anticipative project in segment 9 by executing the last 2 p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 all your applications in segments 3, 4 and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ish your migration project in segment 1 by executing the last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don't execute any phases in your offensive project in segment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 all your applications in segments 1, 4 and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ish your renewal project in segment 5 by executing the last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 all your applications in segments 4, 5 and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8520" y="1522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rt version - 4 bu'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7840" y="152280"/>
            <a:ext cx="18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troductory 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15:08:04Z</dcterms:created>
  <dc:creator>jj</dc:creator>
  <dc:description/>
  <dc:language>en-US</dc:language>
  <cp:lastModifiedBy>jj</cp:lastModifiedBy>
  <dcterms:modified xsi:type="dcterms:W3CDTF">2010-04-13T07:18:00Z</dcterms:modified>
  <cp:revision>15</cp:revision>
  <dc:subject/>
  <dc:title>PowerPoint-presentatie</dc:title>
</cp:coreProperties>
</file>