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D67-B6D0-45CC-99B6-EB7794A0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3DEF-FD0C-4CBF-A1C5-766DCA39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A96-1319-490F-9B56-58CF371B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A8D-7741-43A3-979D-1113AFFC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68A1-49BB-4222-AF89-0D2FC700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570-5D74-4BF3-9216-5268DB9C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C93-E35D-4516-AFD8-B92E7423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B7AA-00FB-4F7F-8C81-5091EEEF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1A6-D9AF-4EC0-BD80-AE2E460C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324-7BBE-4FD4-AFED-7CB12FDD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31A-1326-4F56-8750-46C08847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F56-7B4C-4935-B2A8-8A9F4F6C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9D3B-1687-41CD-B7BA-8C43B5958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51055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4100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60199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60199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60199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60199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51055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4100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7150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3244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3244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3244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629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629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629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934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934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934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238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238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238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543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543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543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848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848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848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8153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8153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8153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458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458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458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763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763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763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7150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3244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629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934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238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543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848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8153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458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763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763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808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990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990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990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763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3808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858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295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295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295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600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600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600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1905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1905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1905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209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209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209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514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514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514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2819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819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819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1240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1240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1240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4290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4290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4290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7339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7339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7339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685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295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600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905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209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514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819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1240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4290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7339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10-03-16T14:07:17Z</dcterms:modified>
  <cp:revision>9</cp:revision>
  <dc:subject/>
  <dc:title>PowerPoint-presentatie</dc:title>
</cp:coreProperties>
</file>