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ABD-F247-4F24-B2D5-F7071AA3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FCE-A2DB-4693-B423-A6293ABF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8BB-3A72-4302-BDE1-128132B7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56E-A86E-45D4-80B3-42C648FD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7F5-6350-4ED7-98EE-D690377E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6E7-2433-4C12-8E70-2414B1BA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E43-755D-48E0-AC6E-15268868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594-5856-45FD-9E05-3971D256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00F-9FCF-4370-9B6D-FDA23E08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EC9-7CBF-4EB0-9E42-2C75C2B2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654-4901-4732-81DB-3FFACDE4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268-F0FB-4960-963F-1A4586F3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1D1F-0B63-4903-9323-837857DD4E5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209680"/>
            <a:ext cx="4724640" cy="4724640"/>
          </a:xfrm>
          <a:prstGeom prst="ellipse">
            <a:avLst/>
          </a:prstGeom>
          <a:solidFill>
            <a:srgbClr val="ffff99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2209680"/>
            <a:ext cx="4724640" cy="4724640"/>
          </a:xfrm>
          <a:prstGeom prst="ellipse">
            <a:avLst/>
          </a:prstGeom>
          <a:solidFill>
            <a:srgbClr val="ffff99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2209680"/>
            <a:ext cx="4724640" cy="4724640"/>
          </a:xfrm>
          <a:prstGeom prst="ellipse">
            <a:avLst/>
          </a:prstGeom>
          <a:solidFill>
            <a:srgbClr val="ffff99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2209680"/>
            <a:ext cx="4724640" cy="4724640"/>
          </a:xfrm>
          <a:prstGeom prst="ellipse">
            <a:avLst/>
          </a:prstGeom>
          <a:solidFill>
            <a:srgbClr val="ffff99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2209680"/>
            <a:ext cx="4724640" cy="4724640"/>
          </a:xfrm>
          <a:prstGeom prst="ellipse">
            <a:avLst/>
          </a:prstGeom>
          <a:solidFill>
            <a:srgbClr val="ffff99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09680"/>
            <a:ext cx="4724640" cy="4724640"/>
          </a:xfrm>
          <a:prstGeom prst="ellipse">
            <a:avLst/>
          </a:prstGeom>
          <a:solidFill>
            <a:srgbClr val="ffff99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j</cp:lastModifiedBy>
  <dcterms:modified xsi:type="dcterms:W3CDTF">2010-04-13T12:34:36Z</dcterms:modified>
  <cp:revision>1</cp:revision>
  <dc:subject/>
  <dc:title>PowerPoint Presentation</dc:title>
</cp:coreProperties>
</file>