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F5C-1D38-456F-8694-05CC2106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207-F070-4189-B823-408CBC1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F5F-B13B-4D9E-BD25-C3A5DC17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47A-B615-42D4-BCB7-98EFB116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19E-289B-417B-B867-2EDEDAF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B7C-87E8-4185-8FDD-3AA1973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047-502A-437A-97D6-2AC41C6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AD2-DD1C-421D-A45D-EF5F316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2B9-2142-42AB-8C5A-F8F24D3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E85-C3A0-4B78-9102-74115435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393-AB5E-433C-8E32-94103313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830-FAEB-49D8-8AE9-30FA001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506E-6824-490D-8F09-96FE9753B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pplication select the bu and administer segment (top) and type (left) of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pplication select the bu and administer the number of phases ex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pplication select the bu and administer the segment (bottom) main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aluator observes interaction and decision making within and between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haos is complete, usually after about 4 fiscal years, one should switch to the 2nd part, otherwise evaluate and play ag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manager prepares the new fiscal year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ing the forward button in the 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rranging the pawns on the application portfolio board according to the application portfolio in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out the reports according to the status reports in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down the maintenance costs (given by the application) on a post-it and attaching this post-it to the to do po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alu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he reflection on the governance process using the question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 new fiscal year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reports for this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turn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ing over the orange jacket (not in the 1st fiscal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uncing the 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ing the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0640" y="152280"/>
            <a:ext cx="25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e master roles - par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522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3T07:41:13Z</dcterms:modified>
  <cp:revision>7</cp:revision>
  <dc:subject/>
  <dc:title>PowerPoint-presentatie</dc:title>
</cp:coreProperties>
</file>