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3A58-460A-40ED-BB79-837311EE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E85F-B8DB-4A09-9023-6603D03B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A4E3-4F50-422F-8455-E8F1B806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4CE9-DE6B-4174-9C30-200D7E01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6CD-7F00-4EBD-9F6B-AEEFC707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4E7-87DE-430E-BAED-445DA806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2AFE-7DF1-4309-AB58-62AB1BE4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5997-3A7B-4854-A351-58FDC3A4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F6AB-E2EC-4365-B72B-A553BD21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C91A-22C8-4148-B1CC-19F40E0F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F9D-429A-4101-AA3C-DF2230DA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97B4-6F35-4225-AE40-0C3E1825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E117-71BE-4213-ACF3-3501613D9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ers are divided into 2 to 4 t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am represents a business unit (b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's together form one organ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me is played in rounds (fiscal years) consist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0 min playing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ard of directors has decided to gain as much market share as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at end each of the bu's has for target to maximise it's individual market s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each fiscal year the bu with the largest market share wears 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ner of the game is the bu with the largest market share by the end of the 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gain market share in a market segment by building an IT-system for tha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 in either of 3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ticipative (under architec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s of the 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rket segment generates a turn over of 6 shared among the bu's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irst mover principle) the earlier a bu is present in a market segment the larger it's market s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under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ers maintenance co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more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governance game is a game of balanc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peed (market sha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itecture (maintenance cos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6360" y="15228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ver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9440" y="15228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6324480"/>
          <a:ext cx="2666880" cy="137808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0880"/>
              </a:tblGrid>
              <a:tr h="27648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76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15:08:04Z</dcterms:created>
  <dc:creator>jj</dc:creator>
  <dc:description/>
  <dc:language>en-US</dc:language>
  <cp:lastModifiedBy>jj</cp:lastModifiedBy>
  <dcterms:modified xsi:type="dcterms:W3CDTF">2010-04-12T11:29:56Z</dcterms:modified>
  <cp:revision>12</cp:revision>
  <dc:subject/>
  <dc:title>PowerPoint-presentatie</dc:title>
</cp:coreProperties>
</file>