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E09D-95E2-4E1F-9EBE-85F3DE819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4375-D1EA-4CFE-B95D-C34C0CBC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01CA-08DE-4E96-B1D1-526EC27F1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42BC-A466-4547-811C-BDFCFB406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DE1E-3012-469C-B445-58A13B6F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D312-5B8F-4503-8940-1C2ACD1A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3F68-E084-40BF-AB2B-2C94C52F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83D6-70A9-4AD9-85D9-CBB0D01A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5B6D-A24D-4F4F-B483-70F1C3C3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C61B-E1ED-4065-B898-7F051278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A3ED-4FC6-40F8-8594-61EACCC3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7FBE-0757-4B27-8C6F-18C674B2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937C-1840-40E4-B8F3-42BD7626A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684360"/>
            <a:ext cx="6514920" cy="74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 Sans"/>
              </a:rPr>
              <a:t>application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 system without maintenance effort on top of it is removed from the application portfol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 system lying in a blue row (at the end of it's life cycle) is removed from the application portfolio unless a renewal project has been delivered for this system (and the system is maintained) this fiscal y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when a system has been removed from the application portfolio the systems to the right in the same market segment (if any) shift 1 column to the le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ll systems move down 1 row and the maintenance efforts are returned to the maintenance ar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 Sans"/>
              </a:rPr>
              <a:t>projec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if no phases have been executed for a project the last completed phase is kill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if a project has no completed phases left the project is kill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completed phases are replaced by square coloured paw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w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  <a:ea typeface="DejaVu Sans"/>
              </a:rPr>
              <a:t>hen 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ll phases have been completed the project is delivered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build: a square coloroud pawn is placed in it's corresponding market segment in the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application portfolio a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the first colum (from the left) that has not been taken by another bu (in order of dev eff no'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the 1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s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 row of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92520" indent="-2102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fensive or offensi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: the top half of the market seg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92520" indent="-2102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: the bottom half of the market seg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renewal: the system is moved to the 1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s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 row in the same column of it’s half of it's market seg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migration: the system is moved from the top half to the bottom half of it's market segment in the corresponding row and the same colum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market sh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the market share a bu gains depens 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the number of bu's present on that market seg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the order in which the bu penetrated that market seg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th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 Sans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pays the bu's their turnover and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hands over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the </a:t>
            </a:r>
            <a:r>
              <a:rPr b="0" lang="en-US" sz="1000" spc="-1" strike="noStrike">
                <a:solidFill>
                  <a:srgbClr val="ff6600"/>
                </a:solidFill>
                <a:latin typeface="Arial"/>
                <a:ea typeface="DejaVu Sans"/>
              </a:rPr>
              <a:t>orange jacke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 to the leading b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nnounces the maintenance costs for the next fiscal year and starts the cl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list of paw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red, yellow, blue or green square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completed phase o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black square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phase to be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red, yellow, blue or green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project tar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silver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developmen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 Sans"/>
              </a:rPr>
              <a:t>capa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gold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maintenan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 Sans"/>
              </a:rPr>
              <a:t>eff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6360" y="15228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th ver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83000" y="15228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ion par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5486400"/>
          <a:ext cx="2666880" cy="1365120"/>
        </p:xfrm>
        <a:graphic>
          <a:graphicData uri="http://schemas.openxmlformats.org/drawingml/2006/table">
            <a:tbl>
              <a:tblPr/>
              <a:tblGrid>
                <a:gridCol w="701640"/>
                <a:gridCol w="701640"/>
                <a:gridCol w="425520"/>
                <a:gridCol w="457200"/>
                <a:gridCol w="380880"/>
              </a:tblGrid>
              <a:tr h="27648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h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764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bu'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2T15:08:04Z</dcterms:created>
  <dc:creator>jj</dc:creator>
  <dc:description/>
  <dc:language>en-US</dc:language>
  <cp:lastModifiedBy>jj</cp:lastModifiedBy>
  <dcterms:modified xsi:type="dcterms:W3CDTF">2010-04-12T13:00:39Z</dcterms:modified>
  <cp:revision>8</cp:revision>
  <dc:subject/>
  <dc:title>PowerPoint-presentatie</dc:title>
</cp:coreProperties>
</file>