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B16-1098-4F4D-83A6-FA53C69A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45C-B4E8-4ACE-88C4-1052347F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ABD-DC42-4F3A-BBAE-DB3867FA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900-E70D-41F3-B634-BF887441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3DB-493A-4DD7-90D8-38A76F0C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BFA-AFA6-44AE-BEC6-4B5A9023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300-DACF-4CED-8EC0-1BA645B3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D8B-C626-45A9-8893-AB57FCB0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E44-ABA0-4B1B-ADA1-EADFB64B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F87-15F2-47CC-9D9C-D66F26E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461-4740-429D-8B91-4E5329EA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BCD-EACE-4478-A304-6754605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43C5-D932-4164-9B98-E8B1F161C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decision been m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be a decision has been made implicit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been dec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es everybody have the same understanding of the decis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made the deci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person or a group of persons, dit everybody agre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s the decision m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be the decision was clear long before it was officially m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as the decision m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is decision m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elements were taken into accoun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360" y="1522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ver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32000" y="1522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 question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08:04Z</dcterms:created>
  <dc:creator>jj</dc:creator>
  <dc:description/>
  <dc:language>en-US</dc:language>
  <cp:lastModifiedBy>jj</cp:lastModifiedBy>
  <dcterms:modified xsi:type="dcterms:W3CDTF">2010-04-12T11:48:48Z</dcterms:modified>
  <cp:revision>7</cp:revision>
  <dc:subject/>
  <dc:title>PowerPoint-presentatie</dc:title>
</cp:coreProperties>
</file>